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camera.wav" ContentType="audio/x-wav"/>
  <Override PartName="/ppt/media/image7.jpeg" ContentType="image/jpeg"/>
  <Override PartName="/ppt/media/image20.png" ContentType="image/png"/>
  <Override PartName="/ppt/media/image12.jpeg" ContentType="image/jpeg"/>
  <Override PartName="/ppt/media/image13.png" ContentType="image/png"/>
  <Override PartName="/ppt/media/image3.png" ContentType="image/png"/>
  <Override PartName="/ppt/media/image17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CBDE-78A1-4372-BF3B-DFB676B2C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D3A3-654B-422A-8A9A-97E44C47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E508-D213-4A72-AABC-253A7FB64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DA08-BBBA-4C56-BD82-F4258B204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FCDC-34B3-4F0E-B187-27B7E469E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5E02-13E0-4A7A-A9A7-3C7774E2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8FB4-E562-4647-BAE8-53BE6EDC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8156-60D0-4E6F-BA17-85CCCEBE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05FB-DBF7-476B-AB57-CB724363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6548-E790-4905-8148-2F124D11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3190-9F32-4727-B571-91B422ED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C9D7-8A7A-4963-87A9-C660A82B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1E36-611C-44E3-B842-82B912BB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1EB0-0976-4311-A85D-6CB64029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978C-B6B3-4D28-BA4E-D1857609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88900-DC5D-43E7-910F-EEC99AE77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3F07-C8FF-4C68-BBAD-C3EB673D5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126B9-83CE-4395-8DF7-FCF232096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C8AFC-A2BE-49A0-8D99-10E4F23E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F11F0-8C5A-40FD-B736-369D07EF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35306-56F6-4775-9052-A74AA007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91459-2F38-4713-B76F-E808C61D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B8BF-E682-4D8A-A8D7-F6F40D34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0EE8F-B332-4DED-B10E-533A1457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D4BDF-E6FC-4B68-8E52-17CB252B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3A2C4-8FCF-454A-9736-FFA5084C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6E3BB-FD70-45D4-8A3D-9BD89205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DA29C-78B1-4B7B-BBAB-C7F1D43A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6CE08-A104-446C-8851-F2FAE34F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7EF57-DDF2-4B9B-98FE-D29DAFB07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5579C-0178-4E55-8407-6F682D98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761B8-7E0C-4337-85C3-B50F9E01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73605-C1F1-476C-B9F3-F5D0C319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8A4C-4E62-4A24-B9EB-4A5F6E1B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B0B93-DFF6-4E98-A60B-2104053F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D1FD8-F195-4217-9DF2-D28EEE0B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F537E-DA17-40D4-8DE8-6A3A124A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E7A76-242B-47C0-AB67-26137AA3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2269B-8AB9-4316-9AA0-6496FFCB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7D5C9-DDB0-44CA-94E1-F6F00E27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117E6-9BDA-4DA0-9D9E-213644DD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C359A-8B15-45E3-B122-8592A2A57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90698-9323-4993-ABB2-AD8C718B3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F3C63-8BDE-4E99-8C4F-C18463028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3F13-F6F3-405B-9BF9-F2F20AF7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36581-2D2E-452A-A247-995F6B16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7F22F-B5C1-4640-A5BA-42BBBBA3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2DC5E-359A-428F-9FEF-33FDC04D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BA611-7132-4C3B-9D1A-B3AC039D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BA4CF-DD14-4620-B1D7-0B094BC0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59C84-0C6A-4F84-A665-AF1D0C90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1307F-6C93-4BE5-8FAC-5466D913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6234A-40C3-4890-9BDF-EB241E6A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59667-D00A-4644-ABFE-592D6D71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2BDD6-3125-43EA-8B39-9D02B0930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46F1-B8C9-458D-B8FB-6E1A0F7E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034A7-47FB-42DD-BDD6-8F4079C12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DB9B-7ED2-4F5B-831D-F89BA93F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3843-4CD2-41FF-9C7A-2966AB53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67FC-EA83-4089-BF0B-BFD91177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大语文课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2C97-CC3F-4E23-BA54-3ACC56C280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大语文课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2B2C-3308-47DF-9B83-CF9D26187A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大语文课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6F2D-DCDF-4DBA-8FAE-4766A12E4E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大语文课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5424-D95A-4B1C-9E68-4F772531F6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大语文课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D911-20AD-4A2F-9F7C-4FF4C85A04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&#25991;&#26412;/&#26031;&#31185;&#29305;&#20026;&#20160;&#20040;&#22833;&#36133;&#65311;.doc" TargetMode="External"/><Relationship Id="rId2" Type="http://schemas.openxmlformats.org/officeDocument/2006/relationships/hyperlink" Target="&#25991;&#26412;/&#26031;&#31185;&#29305;&#20026;&#20160;&#20040;&#22833;&#36133;&#65311;.doc" TargetMode="External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hyperlink" Target="&#32593;&#39029;\&#26031;&#31185;&#29305;&#26085;&#35760;.mht" TargetMode="External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日期占位符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大语文课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1A2F-2B99-440D-8D03-9A662C4A6E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11" descr="0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349360"/>
            <a:ext cx="7772400" cy="1524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伟大的悲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13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14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15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WordArt 16"/>
          <p:cNvSpPr txBox="1"/>
          <p:nvPr/>
        </p:nvSpPr>
        <p:spPr>
          <a:xfrm>
            <a:off x="1943280" y="4221000"/>
            <a:ext cx="536544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ffffff">
                      <a:alpha val="80000"/>
                    </a:srgbClr>
                  </a:outerShdw>
                </a:effectLst>
                <a:latin typeface="黑体"/>
              </a:rPr>
              <a:t>悲剧，为什么“伟大”？</a:t>
            </a:r>
            <a:endParaRPr b="0" lang="en-US" sz="24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ffff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日期占位符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大语文课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9224-F131-4CE4-BA1E-ED9F25C394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2" descr="冰雪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南极点附近的平均气温为零下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摄氏度，寒季时可达零下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0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摄氏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5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6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7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日期占位符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大语文课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16B0-F13D-40B4-BB1A-E1D6FD1229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1026" descr="风雪山海关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95360" y="2642400"/>
            <a:ext cx="815328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9600" spc="-1" strike="noStrike">
              <a:solidFill>
                <a:srgbClr val="ff3300"/>
              </a:solidFill>
              <a:latin typeface="Times New Roman"/>
              <a:ea typeface="华文彩云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87280" y="333000"/>
            <a:ext cx="856944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琥珀简体"/>
                <a:ea typeface="方正琥珀简体"/>
              </a:rPr>
              <a:t>气候极其恶劣，最大风速每秒可达百米左右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琥珀简体"/>
                <a:ea typeface="方正琥珀简体"/>
              </a:rPr>
              <a:t>比每秒</a:t>
            </a:r>
            <a:r>
              <a:rPr b="0" lang="en-US" sz="3200" spc="-1" strike="noStrike">
                <a:solidFill>
                  <a:srgbClr val="ffffff"/>
                </a:solidFill>
                <a:latin typeface="方正琥珀简体"/>
                <a:ea typeface="方正琥珀简体"/>
              </a:rPr>
              <a:t>33</a:t>
            </a:r>
            <a:r>
              <a:rPr b="0" lang="zh-CN" sz="3200" spc="-1" strike="noStrike">
                <a:solidFill>
                  <a:srgbClr val="ffffff"/>
                </a:solidFill>
                <a:latin typeface="方正琥珀简体"/>
                <a:ea typeface="方正琥珀简体"/>
              </a:rPr>
              <a:t>米的</a:t>
            </a:r>
            <a:r>
              <a:rPr b="0" lang="en-US" sz="3200" spc="-1" strike="noStrike">
                <a:solidFill>
                  <a:srgbClr val="ffffff"/>
                </a:solidFill>
                <a:latin typeface="方正琥珀简体"/>
                <a:ea typeface="方正琥珀简体"/>
              </a:rPr>
              <a:t>12</a:t>
            </a:r>
            <a:r>
              <a:rPr b="0" lang="zh-CN" sz="3200" spc="-1" strike="noStrike">
                <a:solidFill>
                  <a:srgbClr val="ffffff"/>
                </a:solidFill>
                <a:latin typeface="方正琥珀简体"/>
                <a:ea typeface="方正琥珀简体"/>
              </a:rPr>
              <a:t>级大风还高出近</a:t>
            </a:r>
            <a:r>
              <a:rPr b="0" lang="en-US" sz="3200" spc="-1" strike="noStrike">
                <a:solidFill>
                  <a:srgbClr val="ffffff"/>
                </a:solidFill>
                <a:latin typeface="方正琥珀简体"/>
                <a:ea typeface="方正琥珀简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方正琥珀简体"/>
                <a:ea typeface="方正琥珀简体"/>
              </a:rPr>
              <a:t>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AutoShape 1029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AutoShape 1030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1031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日期占位符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大语文课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4598-4B8E-4DB4-8E39-7C76F28739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icture 7" descr="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85800" y="3645000"/>
            <a:ext cx="7772400" cy="23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99"/>
                </a:solidFill>
                <a:latin typeface="Times New Roman"/>
              </a:rPr>
              <a:t>　　晴天时光照极强，如果忘记戴墨镜，时常被积雪的反光刺痛眼睛，肿胀、流泪，甚至失明。这种现象叫做“雪盲”。</a:t>
            </a:r>
            <a:br>
              <a:rPr sz="3200"/>
            </a:br>
            <a:r>
              <a:rPr b="0" lang="zh-CN" sz="3200" spc="-1" strike="noStrike">
                <a:solidFill>
                  <a:srgbClr val="ffff99"/>
                </a:solidFill>
                <a:latin typeface="Times New Roman"/>
              </a:rPr>
              <a:t>　　而白雾蒙蒙时，天地之间浑然一片，人、车仿佛融入浓稠的牛奶里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日期占位符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大语文课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A41C-F3A6-4648-B436-91357BEBF2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Picture 2" descr="6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57360" y="404280"/>
            <a:ext cx="782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琥珀简体"/>
                <a:ea typeface="方正琥珀简体"/>
              </a:rPr>
              <a:t>白雪由软变硬时，结成厚厚的冰凌，踩上去就像踩在三角钉上一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AutoShape 5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AutoShape 6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7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日期占位符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大语文课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142B-F59A-4DF9-BC86-A7C57A6183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7" descr="0211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纵横密布的冰缝比暴风雪更恐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日期占位符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大语文课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5AD1-6391-495D-BDAB-AC0FF230BC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7" descr="0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76360" y="476280"/>
            <a:ext cx="7989840" cy="14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这些冰缝深达千米，被称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地狱之门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4149720"/>
            <a:ext cx="7772400" cy="194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日期占位符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大语文课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76C6-DE0C-458F-88F8-2391B7BBCD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7" descr="0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这个冰洞看着美丽，其实危险至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日期占位符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大语文课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0EDE-50D4-4B6F-B71D-A5B5B67499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icture 7" descr="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99"/>
                </a:solidFill>
                <a:latin typeface="Times New Roman"/>
              </a:rPr>
              <a:t>一失足成千古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日期占位符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大语文课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2C75-898C-4689-86B4-A25D70C471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Picture 7" descr="02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85800" y="4005000"/>
            <a:ext cx="7772400" cy="20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99"/>
                </a:solidFill>
                <a:latin typeface="Times New Roman"/>
              </a:rPr>
              <a:t>　　冰山，虽然美丽壮观，但是对于航行在海上的船只来说，却是可怕的威胁。尤其是在大雾迷漫、能见度很差的天气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日期占位符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大语文课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75B0-EDFC-4C3D-98A9-F18DFBADA1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7" descr="tab20002b_pi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夏季气温较“高”时，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随时会有雪崩和冰山崩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10"/>
          <p:cNvGrpSpPr/>
          <p:nvPr/>
        </p:nvGrpSpPr>
        <p:grpSpPr>
          <a:xfrm>
            <a:off x="79200" y="158760"/>
            <a:ext cx="3036960" cy="1004760"/>
            <a:chOff x="79200" y="158760"/>
            <a:chExt cx="3036960" cy="1004760"/>
          </a:xfrm>
        </p:grpSpPr>
        <p:sp>
          <p:nvSpPr>
            <p:cNvPr id="215" name="圆角矩形 2"/>
            <p:cNvSpPr/>
            <p:nvPr/>
          </p:nvSpPr>
          <p:spPr>
            <a:xfrm>
              <a:off x="1058760" y="331560"/>
              <a:ext cx="2057400" cy="684360"/>
            </a:xfrm>
            <a:prstGeom prst="roundRect">
              <a:avLst>
                <a:gd name="adj" fmla="val 6394"/>
              </a:avLst>
            </a:prstGeom>
            <a:solidFill>
              <a:srgbClr val="ffff99"/>
            </a:solidFill>
            <a:ln w="28440">
              <a:solidFill>
                <a:srgbClr val="40404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8000"/>
                  </a:solidFill>
                  <a:latin typeface="Franklin Gothic Medium"/>
                  <a:ea typeface="黑体"/>
                </a:rPr>
                <a:t>字词注音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6" name="图片 4" descr=""/>
            <p:cNvPicPr/>
            <p:nvPr/>
          </p:nvPicPr>
          <p:blipFill>
            <a:blip r:embed="rId1"/>
            <a:stretch/>
          </p:blipFill>
          <p:spPr>
            <a:xfrm>
              <a:off x="79200" y="158760"/>
              <a:ext cx="1066680" cy="100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" name="TextBox 14"/>
          <p:cNvSpPr/>
          <p:nvPr/>
        </p:nvSpPr>
        <p:spPr>
          <a:xfrm>
            <a:off x="615960" y="1579680"/>
            <a:ext cx="78994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     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    ）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负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宁（    ）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狂（    ）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冽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    ）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藏（    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弱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（    ）   告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    ）   遗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Box 15"/>
          <p:cNvSpPr/>
          <p:nvPr/>
        </p:nvSpPr>
        <p:spPr>
          <a:xfrm>
            <a:off x="1315080" y="1708200"/>
            <a:ext cx="11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宋体"/>
              </a:rPr>
              <a:t>zhuà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Box 16"/>
          <p:cNvSpPr/>
          <p:nvPr/>
        </p:nvSpPr>
        <p:spPr>
          <a:xfrm>
            <a:off x="4481640" y="1689120"/>
            <a:ext cx="7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宋体"/>
              </a:rPr>
              <a:t>yí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7"/>
          <p:cNvSpPr/>
          <p:nvPr/>
        </p:nvSpPr>
        <p:spPr>
          <a:xfrm>
            <a:off x="7201800" y="1670040"/>
            <a:ext cx="63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宋体"/>
              </a:rPr>
              <a:t>ɡ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Box 18"/>
          <p:cNvSpPr/>
          <p:nvPr/>
        </p:nvSpPr>
        <p:spPr>
          <a:xfrm>
            <a:off x="1822680" y="2349360"/>
            <a:ext cx="71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宋体"/>
              </a:rPr>
              <a:t>w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Box 19"/>
          <p:cNvSpPr/>
          <p:nvPr/>
        </p:nvSpPr>
        <p:spPr>
          <a:xfrm>
            <a:off x="7213320" y="2349360"/>
            <a:ext cx="6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宋体"/>
              </a:rPr>
              <a:t>lǐ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Box 20"/>
          <p:cNvSpPr/>
          <p:nvPr/>
        </p:nvSpPr>
        <p:spPr>
          <a:xfrm>
            <a:off x="4402080" y="2349360"/>
            <a:ext cx="9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宋体"/>
              </a:rPr>
              <a:t>diā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21"/>
          <p:cNvSpPr/>
          <p:nvPr/>
        </p:nvSpPr>
        <p:spPr>
          <a:xfrm>
            <a:off x="4381560" y="3068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宋体"/>
              </a:rPr>
              <a:t>zh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22"/>
          <p:cNvSpPr/>
          <p:nvPr/>
        </p:nvSpPr>
        <p:spPr>
          <a:xfrm>
            <a:off x="1778400" y="3068640"/>
            <a:ext cx="69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宋体"/>
              </a:rPr>
              <a:t>sh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23"/>
          <p:cNvSpPr/>
          <p:nvPr/>
        </p:nvSpPr>
        <p:spPr>
          <a:xfrm>
            <a:off x="7224840" y="3068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宋体"/>
              </a:rPr>
              <a:t>lé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24"/>
          <p:cNvSpPr/>
          <p:nvPr/>
        </p:nvSpPr>
        <p:spPr>
          <a:xfrm>
            <a:off x="1847880" y="371628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宋体"/>
              </a:rPr>
              <a:t>l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27"/>
          <p:cNvSpPr/>
          <p:nvPr/>
        </p:nvSpPr>
        <p:spPr>
          <a:xfrm>
            <a:off x="4325760" y="364500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宋体"/>
              </a:rPr>
              <a:t>qìn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Box 28"/>
          <p:cNvSpPr/>
          <p:nvPr/>
        </p:nvSpPr>
        <p:spPr>
          <a:xfrm>
            <a:off x="6981120" y="3645000"/>
            <a:ext cx="149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宋体"/>
              </a:rPr>
              <a:t>shuān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日期占位符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大语文课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2D77-E013-4507-A1C7-380B7A615A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用几句话概括故事情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1912</a:t>
            </a:r>
            <a:r>
              <a:rPr b="1" lang="zh-CN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年，英国斯科特探险队一行五人精疲力尽却又满怀希望地到达南极点，却悲哀地发现挪威的阿蒙森已经捷足先登，只好沮丧地踏上归途，在恶劣的气候下一个个悲壮地死去</a:t>
            </a:r>
            <a:r>
              <a:rPr b="0" lang="zh-CN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10"/>
          <p:cNvGrpSpPr/>
          <p:nvPr/>
        </p:nvGrpSpPr>
        <p:grpSpPr>
          <a:xfrm>
            <a:off x="79200" y="158760"/>
            <a:ext cx="3036960" cy="1004760"/>
            <a:chOff x="79200" y="158760"/>
            <a:chExt cx="3036960" cy="1004760"/>
          </a:xfrm>
        </p:grpSpPr>
        <p:sp>
          <p:nvSpPr>
            <p:cNvPr id="371" name="圆角矩形 2"/>
            <p:cNvSpPr/>
            <p:nvPr/>
          </p:nvSpPr>
          <p:spPr>
            <a:xfrm>
              <a:off x="1058760" y="331560"/>
              <a:ext cx="2057400" cy="684360"/>
            </a:xfrm>
            <a:prstGeom prst="roundRect">
              <a:avLst>
                <a:gd name="adj" fmla="val 6394"/>
              </a:avLst>
            </a:prstGeom>
            <a:solidFill>
              <a:srgbClr val="ffff99"/>
            </a:solidFill>
            <a:ln w="28440">
              <a:solidFill>
                <a:srgbClr val="40404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8000"/>
                  </a:solidFill>
                  <a:latin typeface="Franklin Gothic Medium"/>
                  <a:ea typeface="黑体"/>
                </a:rPr>
                <a:t>背景链接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2" name="图片 4" descr=""/>
            <p:cNvPicPr/>
            <p:nvPr/>
          </p:nvPicPr>
          <p:blipFill>
            <a:blip r:embed="rId1"/>
            <a:stretch/>
          </p:blipFill>
          <p:spPr>
            <a:xfrm>
              <a:off x="79200" y="158760"/>
              <a:ext cx="1066680" cy="100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3" name="Text Box 17"/>
          <p:cNvSpPr/>
          <p:nvPr/>
        </p:nvSpPr>
        <p:spPr>
          <a:xfrm>
            <a:off x="428760" y="1430280"/>
            <a:ext cx="828648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910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日，斯科特带领探险队离开英国，前往南极。此时，挪威人阿蒙森率领另一支探险队也正向南极进发。经过一番激烈的竞争，结果是阿蒙森队捷足先登，于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911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日到达南极，而斯科特队则于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912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日才到达，比阿蒙森队晚了近五个星期。最后，阿蒙森队胜利而归，成功的旗帜永远飘扬在南极点上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17"/>
          <p:cNvSpPr/>
          <p:nvPr/>
        </p:nvSpPr>
        <p:spPr>
          <a:xfrm>
            <a:off x="428760" y="1612800"/>
            <a:ext cx="82864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而斯科特等五位冲击南极的英雄，因为南极寒冷天气提前到来，饥寒交迫，体力不支，在返回的路上与严寒搏斗了两个多月，最后长眠在茫茫冰雪中。茨威格发挥想象，根据斯科特遗留下来的一些底片、电影胶卷、书信和遗书，写下了这篇文章，表达了人类征服自然的崇高悲壮的精神。本文节选了斯科特一行从南极绝望而归至悲壮覆灭的部分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日期占位符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大语文课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CA9A-7549-44C0-B58D-A32AAAFBE7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38862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00"/>
                </a:solidFill>
                <a:latin typeface="华文彩云"/>
                <a:ea typeface="华文彩云"/>
              </a:rPr>
              <a:t>预习课文  整体感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3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utoShape 4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utoShape 5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Picture 6" descr="pic_17061"/>
          <p:cNvPicPr/>
          <p:nvPr/>
        </p:nvPicPr>
        <p:blipFill>
          <a:blip r:embed="rId1"/>
          <a:srcRect l="11678" t="2943" r="6887" b="5182"/>
          <a:stretch/>
        </p:blipFill>
        <p:spPr>
          <a:xfrm>
            <a:off x="4951440" y="609480"/>
            <a:ext cx="3506760" cy="56390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7" descr="021-1"/>
          <p:cNvPicPr/>
          <p:nvPr/>
        </p:nvPicPr>
        <p:blipFill>
          <a:blip r:embed="rId2"/>
          <a:stretch/>
        </p:blipFill>
        <p:spPr>
          <a:xfrm>
            <a:off x="1143000" y="3809880"/>
            <a:ext cx="2819520" cy="200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amera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日期占位符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大语文课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EEE4-65BE-4F01-931D-EC9B64D537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本文共写了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个人物，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他们的姓名和身份分别是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85440" y="2057400"/>
            <a:ext cx="3886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7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斯科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spcBef>
                <a:spcPts val="7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威尔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1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埃文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spcBef>
                <a:spcPts val="7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奥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spcBef>
                <a:spcPts val="7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spcBef>
                <a:spcPts val="7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鲍尔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7" descr="pic_17061"/>
          <p:cNvPicPr/>
          <p:nvPr/>
        </p:nvPicPr>
        <p:blipFill>
          <a:blip r:embed="rId1"/>
          <a:srcRect l="11678" t="2943" r="6887" b="5182"/>
          <a:stretch/>
        </p:blipFill>
        <p:spPr>
          <a:xfrm>
            <a:off x="6442200" y="1828800"/>
            <a:ext cx="2701800" cy="434340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8"/>
          <p:cNvSpPr/>
          <p:nvPr/>
        </p:nvSpPr>
        <p:spPr>
          <a:xfrm>
            <a:off x="2554200" y="2060640"/>
            <a:ext cx="3889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英国海军上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博士，负责科学研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英国海军军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英国皇家禁卫军骑兵上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5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99"/>
                </a:solidFill>
                <a:latin typeface="Times New Roman"/>
                <a:ea typeface="华文彩云"/>
              </a:rPr>
              <a:t>复述课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文本框 2"/>
          <p:cNvSpPr/>
          <p:nvPr/>
        </p:nvSpPr>
        <p:spPr>
          <a:xfrm>
            <a:off x="468360" y="154620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12.1.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角逐南极 胜利在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文本框 3"/>
          <p:cNvSpPr/>
          <p:nvPr/>
        </p:nvSpPr>
        <p:spPr>
          <a:xfrm>
            <a:off x="1928880" y="1917720"/>
            <a:ext cx="65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发现黑点和驻扎痕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文本框 4"/>
          <p:cNvSpPr/>
          <p:nvPr/>
        </p:nvSpPr>
        <p:spPr>
          <a:xfrm>
            <a:off x="468360" y="2620800"/>
            <a:ext cx="62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12.1.18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达南极点 为对手作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文本框 5"/>
          <p:cNvSpPr/>
          <p:nvPr/>
        </p:nvSpPr>
        <p:spPr>
          <a:xfrm>
            <a:off x="546120" y="3324240"/>
            <a:ext cx="75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返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寒季来得早，给养越来越少，精神逐渐崩溃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文本框 6"/>
          <p:cNvSpPr/>
          <p:nvPr/>
        </p:nvSpPr>
        <p:spPr>
          <a:xfrm>
            <a:off x="1817640" y="3784680"/>
            <a:ext cx="60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埃文斯   精神失常走向死亡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1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文本框 7"/>
          <p:cNvSpPr/>
          <p:nvPr/>
        </p:nvSpPr>
        <p:spPr>
          <a:xfrm>
            <a:off x="1851120" y="4343400"/>
            <a:ext cx="59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奥茨之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文本框 8"/>
          <p:cNvSpPr/>
          <p:nvPr/>
        </p:nvSpPr>
        <p:spPr>
          <a:xfrm>
            <a:off x="1851120" y="4734000"/>
            <a:ext cx="56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后时刻 共赴死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文本框 9"/>
          <p:cNvSpPr/>
          <p:nvPr/>
        </p:nvSpPr>
        <p:spPr>
          <a:xfrm>
            <a:off x="546120" y="5276880"/>
            <a:ext cx="69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找到遗体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.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  国王下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日期占位符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大语文课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945E-82AA-4125-A356-41A9715AB0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挪威国旗耀武扬威、洋洋得意地在这被人类冲破的堡垒上猎猎作响。</a:t>
            </a:r>
            <a:br>
              <a:rPr sz="3600"/>
            </a:b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国旗怎么会“耀武扬威”“洋洋得意”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85800" y="2924280"/>
            <a:ext cx="777240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这斯科特内心的感受。（失落，绝望，沮丧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在痛苦万分的斯科特眼中，飘扬的挪威国旗就是他的对手、胜利者阿蒙森在耀武扬威、洋洋得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日期占位符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大语文课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885F-3DC7-487B-8262-648CA7DA62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回来的路程危险增加了十倍”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请归纳课文内容证明这句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68360" y="1989000"/>
            <a:ext cx="820728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0720" indent="-4507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路线方面：绝不能偏离原来的足迹，以免错过贮藏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气候方面：狂风暴雪，零下</a:t>
            </a:r>
            <a:r>
              <a:rPr b="0" lang="en-US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40</a:t>
            </a:r>
            <a:r>
              <a:rPr b="0" lang="zh-CN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摄氏度的低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身体方面：体内缺乏初来时的充沛精力和丰富营养，他们的脚早已冻烂。奥茨已经在用冻掉了脚趾的脚板行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精神方面：不再有完成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人类的不朽事业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的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超人的力量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，而只是为了生存，为了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没有任何光彩的回家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物资方面：他们的燃料已经告罄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5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5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日期占位符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大语文课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3A0D-0389-46AE-88A0-97EEC04F2C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一天，伙伴们可怕地发觉，他们中间最身强力壮的埃文斯突然精神失常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埃文斯为什么精神失常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85800" y="263664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这个苦命的人由于摔了一跤或者由于巨大的痛苦已经疯了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巨大的痛苦”指的是哪两个方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恶劣气候的摧残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角逐失败的痛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" dur="5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5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日期占位符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大语文课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A6AB-1F0F-40EE-8119-B5839A1C23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42720" y="549360"/>
            <a:ext cx="8458200" cy="23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　　奥茨突然站起身来，对朋友们说：“我要到外边去走走，可能要多呆一些时候。”其余的人不禁战栗起来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……</a:t>
            </a:r>
            <a:br>
              <a:rPr sz="3200"/>
            </a:br>
            <a:r>
              <a:rPr b="0" lang="zh-CN" sz="3600" spc="-1" strike="noStrike">
                <a:solidFill>
                  <a:srgbClr val="6600cc"/>
                </a:solidFill>
                <a:latin typeface="Times New Roman"/>
              </a:rPr>
              <a:t>　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奥茨要去干什么？他为什么要这样做？请从文中找出根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85800" y="3429000"/>
            <a:ext cx="79898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他“像一个英雄似的向死神走去”。原因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不幸的奥茨不仅感觉到，而且心里也明白，这样下去，他会给朋友们带来厄运”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——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为保护同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750960" y="1459080"/>
            <a:ext cx="75819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鲁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        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踉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忧心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忡（     ）   海市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楼（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疲力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     ）   毛骨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然（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怏不乐（     ）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姗来迟（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1830600" y="1587600"/>
            <a:ext cx="163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宋体"/>
              </a:rPr>
              <a:t>lǔ mǎn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5415120" y="1585800"/>
            <a:ext cx="21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宋体"/>
              </a:rPr>
              <a:t>liànɡ qiàn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2464560" y="2276640"/>
            <a:ext cx="12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宋体"/>
              </a:rPr>
              <a:t>chōn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Box 6"/>
          <p:cNvSpPr/>
          <p:nvPr/>
        </p:nvSpPr>
        <p:spPr>
          <a:xfrm>
            <a:off x="6165360" y="2205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宋体"/>
              </a:rPr>
              <a:t>shè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Box 9"/>
          <p:cNvSpPr/>
          <p:nvPr/>
        </p:nvSpPr>
        <p:spPr>
          <a:xfrm>
            <a:off x="2760120" y="2924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宋体"/>
              </a:rPr>
              <a:t>ji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10"/>
          <p:cNvSpPr/>
          <p:nvPr/>
        </p:nvSpPr>
        <p:spPr>
          <a:xfrm>
            <a:off x="6237720" y="2924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宋体"/>
              </a:rPr>
              <a:t>sǒn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11"/>
          <p:cNvSpPr/>
          <p:nvPr/>
        </p:nvSpPr>
        <p:spPr>
          <a:xfrm>
            <a:off x="2784600" y="364500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宋体"/>
              </a:rPr>
              <a:t>l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13"/>
          <p:cNvSpPr/>
          <p:nvPr/>
        </p:nvSpPr>
        <p:spPr>
          <a:xfrm>
            <a:off x="6163200" y="3573360"/>
            <a:ext cx="10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宋体"/>
              </a:rPr>
              <a:t>shā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日期占位符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大语文课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ACB4-A931-471B-B651-DA608F6344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Times New Roman"/>
              </a:rPr>
              <a:t>在英国国家主教堂里，国王跪下来悼念这几位英雄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写 “国王跪下来悼念这几位英雄”是什么意图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85800" y="3429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从侧面烘托这几位英雄的崇高精神感人至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4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日期占位符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大语文课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139A-6E9D-44A3-B868-645697EE6D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24000" y="456840"/>
            <a:ext cx="842472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cc"/>
                </a:solidFill>
                <a:latin typeface="Times New Roman"/>
              </a:rPr>
              <a:t>　　一个人虽然在同不可战胜的厄运的搏斗中毁灭了自己，但他的心灵却因此变得无比高尚。所有这些在一切时代都是最伟大的悲剧。</a:t>
            </a:r>
            <a:br>
              <a:rPr sz="3200"/>
            </a:b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　这话表达的是什么意思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　在全文中起什么作用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533160" y="3429000"/>
            <a:ext cx="81565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斯科特虽然失败了，但他的心灵变得无比高尚，他们的失败是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伟大的悲剧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”</a:t>
            </a:r>
            <a:r>
              <a:rPr b="0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这句话是主旨句，起</a:t>
            </a:r>
            <a:r>
              <a:rPr b="0" lang="zh-CN" sz="3600" spc="-1" strike="noStrike">
                <a:solidFill>
                  <a:srgbClr val="ff6600"/>
                </a:solidFill>
                <a:latin typeface="华文新魏"/>
                <a:ea typeface="华文新魏"/>
              </a:rPr>
              <a:t>点题</a:t>
            </a:r>
            <a:r>
              <a:rPr b="0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作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1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6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日期占位符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大语文课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5AE6-29DC-470D-8C7E-0E4B42A642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3886200" cy="134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00"/>
                </a:solidFill>
                <a:latin typeface="华文彩云"/>
                <a:ea typeface="华文彩云"/>
              </a:rPr>
              <a:t>归纳 复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AutoShape 3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AutoShape 4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AutoShape 5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Picture 6" descr="pic_17061"/>
          <p:cNvPicPr/>
          <p:nvPr/>
        </p:nvPicPr>
        <p:blipFill>
          <a:blip r:embed="rId1"/>
          <a:srcRect l="11678" t="2943" r="6887" b="5182"/>
          <a:stretch/>
        </p:blipFill>
        <p:spPr>
          <a:xfrm>
            <a:off x="4951440" y="609480"/>
            <a:ext cx="3506760" cy="5639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7" descr="021-1"/>
          <p:cNvPicPr/>
          <p:nvPr/>
        </p:nvPicPr>
        <p:blipFill>
          <a:blip r:embed="rId2"/>
          <a:stretch/>
        </p:blipFill>
        <p:spPr>
          <a:xfrm>
            <a:off x="1143000" y="3809880"/>
            <a:ext cx="2819520" cy="200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amera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日期占位符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大语文课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BF03-A2AF-4EC7-9A7D-FF55578C74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8200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99"/>
                </a:solidFill>
                <a:latin typeface="Times New Roman"/>
                <a:ea typeface="华文彩云"/>
              </a:rPr>
              <a:t>说话练习（考查思维的条理性）：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斯科特一行的壮举是伟大的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悲剧”，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“悲”在哪几个方面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692000" y="2781360"/>
            <a:ext cx="71089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角逐失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含恨死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为对手作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日期占位符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大语文课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A7C6-5E0D-42C2-8CD9-D10A824A49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632720" cy="14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华文彩云"/>
              </a:rPr>
              <a:t>说话练习（考查思维的条理性）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斯科特一行的壮举是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伟大”的悲剧，又“伟大”在哪几个方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539640" y="1844640"/>
            <a:ext cx="144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精神伟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人格伟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情感   伟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2036880" y="1395360"/>
            <a:ext cx="66960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吃苦耐劳、坚忍不拔，有强烈的集体主义精神和团结协作精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为对手作证，有令人敬佩绅士风度和伟大胸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华文新魏"/>
                <a:ea typeface="华文新魏"/>
              </a:rPr>
              <a:t>生命的最后一息惦记的是别人：朋友、同伴、妻小，还有祖国和人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9" dur="5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4" dur="5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4" dur="500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9" dur="500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4" dur="500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日期占位符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大语文课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C54E-57A5-46CB-840B-43FDC9683D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　茨威格为何不给胜利者阿蒙森作传，却充满激情地为失败者斯科特书写这悲壮的一幕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610920" y="2492280"/>
            <a:ext cx="806292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他主要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从其意义和价值考虑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。作为一位伟大的作家，茨威格想到的绝不仅是事业的成功，而是事件背后给人精神上的震撼和启迪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斯科特虽然是“失败者”，但给人精神上的震撼和启迪，绝不亚于阿蒙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6" dur="500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日期占位符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大语文课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6590-3E90-4059-B943-44B9B52320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作者借此表达什么思想感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——</a:t>
            </a:r>
            <a:r>
              <a:rPr b="0" lang="zh-CN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颂扬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人类勇于探索的精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为事业而献身的精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强烈的集体主义精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3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8" dur="500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3" dur="500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8" dur="500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3" dur="500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日期占位符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大语文课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9904-48BA-440E-B670-C427D7E1A2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讨论或辩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80520" y="1916280"/>
            <a:ext cx="84582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以上只是课本和老师安排的任务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此外你还有什么问题、见解？例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斯科特没能第一个到达南极点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这是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失败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阿蒙森为什么胜利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斯科特为什么失败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camera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日期占位符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大语文课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A0E8-50CC-4A70-98F4-740D2ED793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Picture 1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5" descr="021-1"/>
          <p:cNvPicPr/>
          <p:nvPr/>
        </p:nvPicPr>
        <p:blipFill>
          <a:blip r:embed="rId2"/>
          <a:stretch/>
        </p:blipFill>
        <p:spPr>
          <a:xfrm>
            <a:off x="6705720" y="380880"/>
            <a:ext cx="1868400" cy="1332000"/>
          </a:xfrm>
          <a:prstGeom prst="rect">
            <a:avLst/>
          </a:prstGeom>
          <a:ln w="0">
            <a:noFill/>
          </a:ln>
        </p:spPr>
      </p:pic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c0c0"/>
                </a:solidFill>
                <a:latin typeface="Times New Roman"/>
                <a:ea typeface="华文彩云"/>
              </a:rPr>
              <a:t>网上阅读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685800" y="3860280"/>
            <a:ext cx="7772400" cy="17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  <a:hlinkClick r:id="rId3"/>
              </a:rPr>
              <a:t>斯格特日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日期占位符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大语文课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6837-2613-473F-A7FF-A1DF28DAEC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50021"/>
                </a:solidFill>
                <a:latin typeface="华文彩云"/>
                <a:ea typeface="华文彩云"/>
              </a:rPr>
              <a:t>作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85440" y="2133720"/>
            <a:ext cx="4267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宋体"/>
              </a:rPr>
              <a:t>茨威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宋体"/>
              </a:rPr>
              <a:t>（</a:t>
            </a:r>
            <a:r>
              <a:rPr b="0" lang="zh-CN" sz="3600" spc="-1" strike="noStrike">
                <a:solidFill>
                  <a:srgbClr val="0000cc"/>
                </a:solidFill>
                <a:latin typeface="宋体"/>
              </a:rPr>
              <a:t>1881</a:t>
            </a:r>
            <a:r>
              <a:rPr b="0" lang="zh-CN" sz="3600" spc="-1" strike="noStrike">
                <a:solidFill>
                  <a:srgbClr val="0000cc"/>
                </a:solidFill>
                <a:latin typeface="宋体"/>
              </a:rPr>
              <a:t>～</a:t>
            </a:r>
            <a:r>
              <a:rPr b="0" lang="zh-CN" sz="3600" spc="-1" strike="noStrike">
                <a:solidFill>
                  <a:srgbClr val="0000cc"/>
                </a:solidFill>
                <a:latin typeface="宋体"/>
              </a:rPr>
              <a:t>1942</a:t>
            </a:r>
            <a:r>
              <a:rPr b="0" lang="zh-CN" sz="3600" spc="-1" strike="noStrike">
                <a:solidFill>
                  <a:srgbClr val="0000cc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奥地利著名小说家、传记作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10" descr="茨威格2"/>
          <p:cNvPicPr/>
          <p:nvPr/>
        </p:nvPicPr>
        <p:blipFill>
          <a:blip r:embed="rId1"/>
          <a:stretch/>
        </p:blipFill>
        <p:spPr>
          <a:xfrm>
            <a:off x="5256360" y="1066680"/>
            <a:ext cx="3125520" cy="3886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amera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大语文课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6832-9FB8-45D9-AFE2-19FECF2DF6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Times New Roman"/>
                <a:ea typeface="华文彩云"/>
              </a:rPr>
              <a:t>茨威格简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9280" y="1557000"/>
            <a:ext cx="82090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全名斯蒂芬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·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茨威格，出身于富裕的犹太家庭。青年时代在维也纳和柏林攻读哲学和文学。后去世界各地游历，结识罗曼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·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曼兰和罗丹等人，并受到他们的影响。第一次世界大战时从事反战工作，成为著名的和平主义者。二十年代赴苏联，认识了高尔基。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934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年遭纳粹驱逐，先后流亡英国、巴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　　茨威格在诗、短论、小说、戏剧和人物传记写作方面均有过人的造诣，尤以小说和人物传记见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日期占位符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大语文课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CC17-6B68-47B2-BCF1-AB870EDE39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1026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720" y="2742840"/>
            <a:ext cx="716256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南极图片欣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99"/>
              </a:buClr>
              <a:buFont typeface="方正琥珀简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1036" descr="021-1"/>
          <p:cNvPicPr/>
          <p:nvPr/>
        </p:nvPicPr>
        <p:blipFill>
          <a:blip r:embed="rId2"/>
          <a:stretch/>
        </p:blipFill>
        <p:spPr>
          <a:xfrm>
            <a:off x="6705720" y="380880"/>
            <a:ext cx="1868400" cy="1332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日期占位符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大语文课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9B0B-398D-44BA-9209-0D3DF71EF5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2" descr="0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对于人类来说</a:t>
            </a:r>
            <a:br>
              <a:rPr sz="4800"/>
            </a:br>
            <a:r>
              <a:rPr b="0" lang="zh-CN" sz="4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南极是一个童话般的世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47640" y="69192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5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6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7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日期占位符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大语文课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E93A-088E-4901-9628-3CEE6F2B8E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2" descr="日落西海岸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134200" cy="13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这里有着湛蓝的天、洁白的雪和艳红的太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5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6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7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日期占位符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大语文课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05B1-7D14-4F40-A9B0-6BA9B468C7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2" descr="0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0000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然而，在这能荡涤心灵的纯美景致之下无处不隐藏着致命的危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85800" y="342900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99"/>
                </a:solidFill>
                <a:latin typeface="Times New Roman"/>
              </a:rPr>
              <a:t>　　这里的自然界是冷酷无情的，千万年来积聚的力量能使它像精灵似的召唤来寒冷、冰冻、飞雪、风暴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——</a:t>
            </a:r>
            <a:r>
              <a:rPr b="0" lang="zh-CN" sz="3200" spc="-1" strike="noStrike">
                <a:solidFill>
                  <a:srgbClr val="ffff99"/>
                </a:solidFill>
                <a:latin typeface="Times New Roman"/>
              </a:rPr>
              <a:t>使用这一切足以毁灭人的法术来对付敢于登上这里的勇敢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5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6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7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01T02:40:10Z</dcterms:created>
  <dc:creator/>
  <dc:description/>
  <dc:language>en-US</dc:language>
  <cp:lastModifiedBy>Administrator</cp:lastModifiedBy>
  <dcterms:modified xsi:type="dcterms:W3CDTF">2017-06-01T03:27:44Z</dcterms:modified>
  <cp:revision>1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490</vt:lpwstr>
  </property>
</Properties>
</file>